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FC0-1943-45B9-A27D-F82C7136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155-E381-493E-8601-F7C294E5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4A0-0A50-4C63-BB03-4CBC55F8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C71-A382-44F3-BA21-56EC2271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320-F031-4CA6-BAE5-7DF77551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732-2203-4D52-B1E4-6005CB94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C70-FB44-42CB-A9A8-066A9A93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7C1-116D-4DB7-B6EE-8B2F4C1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34E-8175-420C-9F76-79DB8F2C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8DF-9947-47A3-8410-ACCCC2B4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D7E-F56E-4DF7-9014-631FF87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03F-6287-4B8A-B4DC-717FE620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CA2D-0617-4C85-971C-5A18AA7F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lantgdb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lantGDB: Annotation Principles &amp;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1219320" y="1295280"/>
            <a:ext cx="6705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98" t="3367" r="1355" b="0"/>
          <a:stretch/>
        </p:blipFill>
        <p:spPr>
          <a:xfrm>
            <a:off x="228600" y="76320"/>
            <a:ext cx="864396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25733" t="27159" r="27794" b="25191"/>
          <a:stretch/>
        </p:blipFill>
        <p:spPr>
          <a:xfrm>
            <a:off x="457200" y="33480"/>
            <a:ext cx="822960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Web-Based Gene Structure Annot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 local region using all available EST and protein mapp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 a gene structure (expert)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el contributed annotation through a cura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confirmed annotation to the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4422" r="1042" b="10934"/>
          <a:stretch/>
        </p:blipFill>
        <p:spPr>
          <a:xfrm>
            <a:off x="76320" y="68400"/>
            <a:ext cx="899136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228600" y="76320"/>
            <a:ext cx="861048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93" t="3795" r="26902" b="3119"/>
          <a:stretch/>
        </p:blipFill>
        <p:spPr>
          <a:xfrm>
            <a:off x="1219320" y="76320"/>
            <a:ext cx="630684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1680" y="76320"/>
            <a:ext cx="5767200" cy="642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655308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4422" r="1042" b="0"/>
          <a:stretch/>
        </p:blipFill>
        <p:spPr>
          <a:xfrm>
            <a:off x="228600" y="-152280"/>
            <a:ext cx="87631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9000" y="1522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4876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lantgdb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plantgdb.org/AtGDB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, Schlueter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t Physi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69-4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Dong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88620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80060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er Bre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Wilk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tional gen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 init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es (Markov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c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ained gen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2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Seq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9560" y="1924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68560" y="2610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8560" y="2724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8560" y="28386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68560" y="295272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8560" y="30672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8560" y="31813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68560" y="32958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8560" y="3409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68560" y="352440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8560" y="36385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8560" y="3753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7524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omic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25124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 or prote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ffix Array/ Suffix T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38280"/>
            <a:ext cx="3200400" cy="354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3716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4208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451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5004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24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152800"/>
            <a:ext cx="914400" cy="1428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249840 h 1428480"/>
              <a:gd name="textAreaBottom" fmla="*/ 103572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24955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5004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208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664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581280"/>
            <a:ext cx="1015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4960" y="3352680"/>
            <a:ext cx="20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753000"/>
            <a:ext cx="609840" cy="514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1560" y="3581280"/>
            <a:ext cx="25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ced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438280"/>
            <a:ext cx="223524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0040" y="3638520"/>
            <a:ext cx="2260440" cy="743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664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552920"/>
            <a:ext cx="304560" cy="11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42080" y="4552920"/>
            <a:ext cx="304560" cy="11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552920"/>
            <a:ext cx="304920" cy="11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37160" y="4781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019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2440" y="1924200"/>
            <a:ext cx="4064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1924200"/>
            <a:ext cx="711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6840" y="1924200"/>
            <a:ext cx="1930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6480" y="4952880"/>
            <a:ext cx="193032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5010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89280" y="2124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30120"/>
            <a:ext cx="71625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44..160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320..390,504..579)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codon_start=1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tein_id="CAA44171.1"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GI:16354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SWISS-PROT:P31169"  I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translation=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MSETNKNAFQAGQAAGKAERRRAMFCWTRPRMLLLQLELPRNRA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KSISDAAVGGVNFVKDKTGLNK"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161..31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320..390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391..503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504..&gt;57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3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52280"/>
            <a:ext cx="57913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    ATKIN2        880 bp    DNA             PLN       23-JUL-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ST Accession 3450035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1     78    160 (  83 n);  cDNA      1     80 (  80 n); score: 0.86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1    161    321 ( 161 n);  Pd: 0.976 (s: 0.90), Pa: 0.972 (s: 1.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2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90 (  69 n);  cDNA     81    149 (  69 n); score: 0.97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2    391    504 ( 114 n);  Pd: 0.999 (s: 0.96), Pa: 0.964 (s: 0.9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3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785 ( 281 n);  cDNA    150    429 ( 280 n); score: 0.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lignment (genomic DNA sequence = upper line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AAAGCT GAGGTACTCT TTCTCTCTTA GAACAGAGTA CTGATAGATT      1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|||| |||| ||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CAAGCT GAG....... .......... .......... ..........       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TAGGAGAAG AGCAATGTTC TGCTGGACAA GGCCAAGGAT GCTGCTGCTG CAGCTGGAGC      37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||||||| |||||||||| |||||||||| |||||||||| 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GAGAAG AGCAATGTTC TGCTGGACAA GGCCAAGGAT GCTGCTGCTG CAGCTGGAGN      13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GCAA CAGGTAAACG ATCTATACAC ACATTATGAC ATTTATGTAA AGAATGAAAA      4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NCAA CAG....... .......... .......... .......... ..........      1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TATAGGCG GGAAAGAGTA TATCGGATGC GGCAGTGGGA GGTGTTAACT TCGTGAAGGA      55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 |||||||||| |||||||||| |||||||||| |||||||||  |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GCG GGAAAGAGTA TATCGGATGC GGCAGTGGGA GGTGTTAAC- TCGTGAAGGA      2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1143000"/>
            <a:ext cx="23623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n erroneous GenBank annotation.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Bank CDS gives incorrect assignment of both acceptor sites (319 should be 321, 503 should be 504), as pointed out by Korning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 (1996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liced alignment with a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bidopsi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by the GeneSeqer program [Usuka &amp; Brendel, 2000] proves the correct assignment (identities between the genomic DNA, upper lines, and EST, lower lines, are indicated by |; positions of the rightmost residues in each sequence block are given on the right; introns are indicated by …; for brevity, some sequence segments are replaced b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/////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he erroneous intron assignment led to an incorrect protein sequence prediction (Pfalse).  Both the incorrect sequence and the correct protein sequence (Pcorrect) persist in the NCBI non-redundant protein database under different accessions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80" y="15876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ATKIN2 880 bp  DNA PLN 23-JUL-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00340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42240" y="132408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4880" y="353376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CT AN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5160" y="419112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42240" y="48308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5119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55079"/>
          <a:stretch/>
        </p:blipFill>
        <p:spPr>
          <a:xfrm>
            <a:off x="2227320" y="249120"/>
            <a:ext cx="6535800" cy="636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0520" y="68580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no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685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219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914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384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438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211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292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66294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905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876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685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2952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438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2767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6240" y="1676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-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25909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GR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240" y="46483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s of the PlantGDB Annotation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sually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oth curators &amp; communit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e automated &amp; non-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namic &amp;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ommunity “ owned &amp; operated 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Structure Annotatio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erge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notated genes actually correspond to a single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ro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nnotated gene structure actually contains two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negative gene pre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incorrect gene annotation, missing annotation of alternative tran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1:35:17Z</dcterms:created>
  <dc:creator>Shannon </dc:creator>
  <dc:description/>
  <dc:language>en-US</dc:language>
  <cp:lastModifiedBy>Shannon </cp:lastModifiedBy>
  <dcterms:modified xsi:type="dcterms:W3CDTF">2004-04-26T17:18:36Z</dcterms:modified>
  <cp:revision>8</cp:revision>
  <dc:subject/>
  <dc:title>Slide 1</dc:title>
</cp:coreProperties>
</file>